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5975-C0FC-47D2-8D4E-7FB9ADB03A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387A-84A2-48FC-BC68-15F7056089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ACA87-6DA9-4407-A744-35C8102C7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5FDEF-3954-4969-9971-C5C174255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F7738-C29F-4415-839F-62DC7EABD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4B978-0A39-48C3-99B7-5E71B401D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E94B8-FE12-406C-AD18-DADB66E4C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D0523-CDEB-410A-9D4C-8D214BC2A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34664-C16F-4364-8AAB-08F5F16E8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0C8F5-5653-4C3E-BA76-B4B5A670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37DAF-AF35-413B-9A5F-D00B3BE64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1C97-60C5-46A1-8B57-6B883C0DF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8FF9F-A0AC-4E18-B34B-44162BE97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13F8-467B-4E5C-AD95-DA704F976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D6DC-C11F-4424-8DAC-C1C8941BB0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LaurE\Desktop\New folder (5)\japan-earthquake3.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2286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utremur devastator in Japonia</a:t>
            </a:r>
            <a:br>
              <a:rPr sz="4000"/>
            </a:br>
            <a:endParaRPr b="0" lang="en-US" sz="4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LaurE\Desktop\New folder (5)\Japanese-Tsunami-and-Earthquake.jpg"/>
          <p:cNvPicPr/>
          <p:nvPr/>
        </p:nvPicPr>
        <p:blipFill>
          <a:blip r:embed="rId1"/>
          <a:stretch/>
        </p:blipFill>
        <p:spPr>
          <a:xfrm>
            <a:off x="0" y="0"/>
            <a:ext cx="9250200" cy="6858000"/>
          </a:xfrm>
          <a:prstGeom prst="rect">
            <a:avLst/>
          </a:prstGeom>
          <a:ln w="0">
            <a:noFill/>
          </a:ln>
        </p:spPr>
      </p:pic>
      <p:sp>
        <p:nvSpPr>
          <p:cNvPr id="51" name="PlaceHolder 1"/>
          <p:cNvSpPr>
            <a:spLocks noGrp="1"/>
          </p:cNvSpPr>
          <p:nvPr>
            <p:ph type="title"/>
          </p:nvPr>
        </p:nvSpPr>
        <p:spPr>
          <a:xfrm>
            <a:off x="4419360" y="175212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Japonia a devenit epicentrul dezastrului mondial, după ce un cutremur de 8,9 grade s-a produs în Pacific, la doar câţiva kilometri de nord-estul insulei. Şi era doar începutul, pentru că un tsunami de până la 10 metri înălţime a măturat apoi ţărmul, iar în câteva ore s-au produs alte zeci de seisme de peste 5 grade.</a:t>
            </a:r>
            <a:endParaRPr b="0" lang="en-US" sz="24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japan_032399922e"/>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3580920" y="259056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upă ce cutremurul a lovit Japonia, nori negri de fum s-au ridicat deasupra oraşului Tokio, unde seismul s-a resimţit la o intensitate de 7,9 grade. Posturile de televiziune nipone transmiteau imagini cu angajaţii care încercau să-şi ţină computerele pe birou. Japonezii încă nu intraseră în panică, părăsind disciplinaţi clădirile, aşa cum fuseseră pregătiţi de autorităţi. La doar 40 de minute după aceea, ţărmul din nord-estul arhipelagului a fost măturat de un val seismic care a ajuns în anumite zone până la 10 metri. Cel mai afectat oraş de coastă, Onahama, a fost ras cu totul de pe faţa pământului. În cursul zilei de ieri, “Ţara Soarelui Răsare” a fost lovită de peste 60 de replici de peste 5 grade.</a:t>
            </a:r>
            <a:br>
              <a:rPr sz="2000"/>
            </a:br>
            <a:endParaRPr b="0" lang="en-US" sz="2000" spc="-1" strike="noStrike">
              <a:solidFill>
                <a:srgbClr val="000000"/>
              </a:solidFill>
              <a:latin typeface="Calibri"/>
            </a:endParaRPr>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japonia-cutremur-3-afp"/>
          <p:cNvPicPr/>
          <p:nvPr/>
        </p:nvPicPr>
        <p:blipFill>
          <a:blip r:embed="rId1"/>
          <a:stretch/>
        </p:blipFill>
        <p:spPr>
          <a:xfrm>
            <a:off x="0" y="0"/>
            <a:ext cx="9144000" cy="6858000"/>
          </a:xfrm>
          <a:prstGeom prst="rect">
            <a:avLst/>
          </a:prstGeom>
          <a:ln w="0">
            <a:noFill/>
          </a:ln>
        </p:spPr>
      </p:pic>
      <p:sp>
        <p:nvSpPr>
          <p:cNvPr id="55" name="Rectangle 5"/>
          <p:cNvSpPr/>
          <p:nvPr/>
        </p:nvSpPr>
        <p:spPr>
          <a:xfrm>
            <a:off x="3505320" y="685800"/>
            <a:ext cx="5257800" cy="5715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Bilanţ provizoriu: 1.000 de morţi</a:t>
            </a:r>
            <a:br>
              <a:rPr sz="1900"/>
            </a:br>
            <a:r>
              <a:rPr b="1" lang="en-US" sz="1900" spc="-1" strike="noStrike">
                <a:solidFill>
                  <a:srgbClr val="ffffff"/>
                </a:solidFill>
                <a:latin typeface="Calibri"/>
              </a:rPr>
              <a:t> la câteva ore de la tragedie, bilanţul provizoriu anunţa că numărul morţilor era de circa 1.000, alte câteva sute de persoane erau rănite şi 88.000 dispărute. Autorităţile au declarat că sute de zboruri au fost anulate, odată cu închiderea mai multor aeroporturi, şi că traficul trenurilor de mare viteză a fost oprit, pentru a se evita alte dezastre. După cutremur şi tsunami, japonezii au avut de luptat, ieri, cu cele peste 80 de incendii izbucnite de-a lungul razei de propagare a undelor seismice, focurile înalte de peste 20 de metri fiind cu greu stinse.</a:t>
            </a:r>
            <a:br>
              <a:rPr sz="1900"/>
            </a:br>
            <a:r>
              <a:rPr b="1" lang="en-US" sz="1900" spc="-1" strike="noStrike">
                <a:solidFill>
                  <a:srgbClr val="ffffff"/>
                </a:solidFill>
                <a:latin typeface="Calibri"/>
              </a:rPr>
              <a:t>Intensitatea seismului din Oceanul Pacific a ieşit din scara Richter</a:t>
            </a:r>
            <a:br>
              <a:rPr sz="1900"/>
            </a:br>
            <a:r>
              <a:rPr b="1" lang="en-US" sz="1900" spc="-1" strike="noStrike">
                <a:solidFill>
                  <a:srgbClr val="ffffff"/>
                </a:solidFill>
                <a:latin typeface="Calibri"/>
              </a:rPr>
              <a:t>Magnitudinea cutremurului  din Japonia a depăşit Scara Richter. Potrivit lui Gheorghe Mărmureanu, directorul Institutului de Fizică a Pământului, pe Richter se pot măsura cutremure cu magnitudinea de până la 8,45 grade. Acesta e motivul pentru care seismul din Japonia e măsurat pe scara moment seismic (MQ) cu magnitudinea de 8,9</a:t>
            </a:r>
            <a:r>
              <a:rPr b="1" lang="en-US" sz="1500" spc="-1" strike="noStrike">
                <a:solidFill>
                  <a:srgbClr val="ffffff"/>
                </a:solidFill>
                <a:latin typeface="Calibri"/>
              </a:rPr>
              <a:t>.</a:t>
            </a:r>
            <a:endParaRPr b="0" lang="en-US" sz="1500" spc="-1" strike="noStrike">
              <a:solidFill>
                <a:srgbClr val="000000"/>
              </a:solidFill>
              <a:latin typeface="Calibri"/>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C:\Users\LaurE\Desktop\New folder (5)\japan-nuclear-meltdown.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648320" y="388584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Zeci de mii de oameni evacuati, ​explozii zilnice la reactoarele nucleare de la Centrala Fukushima, localnici si muncitori iradiati. Acesta este tabloul dezastrului produs in nord-estul Japoniei, unde instalatiile unei centrale nucleare vechi de 40 de ani au fost grav afectate de cutremurul si tsunami-ul produse vineri, 11 martie.</a:t>
            </a:r>
            <a:endParaRPr b="0" lang="en-US" sz="24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1:24:00Z</dcterms:created>
  <dc:creator>LaurE</dc:creator>
  <dc:description/>
  <dc:language>en-US</dc:language>
  <cp:lastModifiedBy>LaurE</cp:lastModifiedBy>
  <dcterms:modified xsi:type="dcterms:W3CDTF">2011-06-08T21:57:35Z</dcterms:modified>
  <cp:revision>4</cp:revision>
  <dc:subject/>
  <dc:title>JAPONIA Cutremur devas</dc:title>
</cp:coreProperties>
</file>